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1379-AECA-4882-9648-6E7D9FF4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0A4D-F03E-4BF0-AE79-2C769F0A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6DC-F29E-47F2-AA13-DBB12A8F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6986-35EC-47F8-8488-ABCA4BC0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6653-EF44-4C66-BCB6-109346BD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2FD-29E7-42BA-99F5-919D598B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951-3448-41AC-ACA3-5584C15F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432C-9A41-4977-8B26-74C681D9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161-B014-4540-A2B7-8DC0F01A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E5E-B6EA-4F57-A3B8-8D7F941D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D04-07B9-4B4A-B1D2-4EF9F4B9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731-A4E5-4D85-BBC9-430816E0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5D4EA-9714-4F99-9CBB-3A17526C79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18D1E-5BBC-4EE5-966E-92A15B798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803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A has a pH of 6. How should it be classified? (strong base, weak base, strong acid, weak acid, or neut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B has a pH of 1.5. How should it be classified? (strong base, weak base, strong acid, weak acid, or neut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C has a pH of 9.6. How should it be classified? (strong base, weak base, strong acid, weak acid, or neut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D has a pH of 7. How should it be classified? (strong base, weak base, strong acid, weak acid, or neut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E has a pH of 13.4. How should it be classified? (strong base, weak base, strong acid, weak acid, or neut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F has a pH of 4.5. How should it be classified? (strong base, weak base, strong acid, weak acid, or neut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 candy has a pH of 4. Is sour candy an acid, base, or neutr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lenol has a pH of 9. Is Tylenol an acid, base, or neutr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furic acid has a pH of 1. Is sulfuric acid an acid, base, or neutr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nge juice has a pH of 3. Is orange juice an acid, base, or neutr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a water has a pH of 8. Is sea water an acid, base, or neutr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quid drain cleaner has a pH of 14. Is liquid drain cleaner an acid, base, or neutr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9422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of the following substances is the strongest aci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  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                   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                   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                  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of the following substances is the strongest b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  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                   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                    2.2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                   1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of the following substances is the strongest aci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  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                   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                    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                   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of the following substances is a weak aci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  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                   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                    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                   5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of the following substances is a weak b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  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                  3.2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                    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                   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of the following substances is the strongest b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  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                   1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                    9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                   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of the following substances is a strong aci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  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                   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                    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                   3.8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of the following substances is neutral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  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                  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                    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                   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of the following substances is a strong b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   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                   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                    1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                   1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ffee has a pH of 5. Is coffee an acid, base, or neutral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othpaste has a pH of 9.9. Is toothpaste an acid, base, or neutral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ttery acid has a pH of 0. Is battery acid an acid, base, or neutral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0:19:28Z</dcterms:created>
  <dc:creator>Caroline Roth</dc:creator>
  <dc:description/>
  <dc:language>en-US</dc:language>
  <cp:lastModifiedBy>Caroline Roth</cp:lastModifiedBy>
  <cp:lastPrinted>2011-02-10T03:42:45Z</cp:lastPrinted>
  <dcterms:modified xsi:type="dcterms:W3CDTF">2011-04-11T00:37:41Z</dcterms:modified>
  <cp:revision>7</cp:revision>
  <dc:subject/>
  <dc:title>Slide 1</dc:title>
</cp:coreProperties>
</file>